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53D-249C-4FC3-AD59-075F9B7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EAC-59E0-41B5-B822-50BBD76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02D-5A74-4899-83D8-C7F31A59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7FA-BB1C-45C7-92E5-821D8046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C6A-CFB9-4F08-A181-181D189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811-2A67-4EBB-B468-0F8DD3B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1C6-38CB-4BC4-A198-F6B7A596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82A-5551-49A3-B978-C89C128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C2C-046B-42AA-AA57-1428CD37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C0C-72E1-4E44-A28E-B17B460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C08-B0FA-4F61-99A6-6122385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327-7699-48EA-9CA0-91C4BF9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FCC4C-41CA-4966-A8DC-897A6C395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A3400-EE03-44BB-AE37-A15092ABB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4846680" y="738360"/>
            <a:ext cx="4303800" cy="4881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6181560" y="2838600"/>
            <a:ext cx="1710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99880" y="336600"/>
            <a:ext cx="3470400" cy="2112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142280" y="22035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Picture: Newspix / Rex Featu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extBox 6" descr=""/>
          <p:cNvPicPr/>
          <p:nvPr/>
        </p:nvPicPr>
        <p:blipFill>
          <a:blip r:embed="rId2"/>
          <a:stretch/>
        </p:blipFill>
        <p:spPr>
          <a:xfrm>
            <a:off x="3981600" y="311040"/>
            <a:ext cx="4973400" cy="60231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8" descr=""/>
          <p:cNvPicPr/>
          <p:nvPr/>
        </p:nvPicPr>
        <p:blipFill>
          <a:blip r:embed="rId3"/>
          <a:stretch/>
        </p:blipFill>
        <p:spPr>
          <a:xfrm>
            <a:off x="274680" y="2646360"/>
            <a:ext cx="3522600" cy="366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1797120" y="3989520"/>
            <a:ext cx="58716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2712960" y="3989520"/>
            <a:ext cx="587520" cy="47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6"/>
          <a:stretch/>
        </p:blipFill>
        <p:spPr>
          <a:xfrm>
            <a:off x="844560" y="3989520"/>
            <a:ext cx="58752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350040" y="176040"/>
            <a:ext cx="2577960" cy="15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263520" y="176040"/>
          <a:ext cx="5894280" cy="6359760"/>
        </p:xfrm>
        <a:graphic>
          <a:graphicData uri="http://schemas.openxmlformats.org/drawingml/2006/table">
            <a:tbl>
              <a:tblPr/>
              <a:tblGrid>
                <a:gridCol w="1552680"/>
                <a:gridCol w="3378240"/>
                <a:gridCol w="96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 and careful notes were taken.  Evidence present to show that multiple sources were used.  Citations are provided for all articles u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lay depicts one possible explanation for “frog rain” phenomenon.  Attention was given to neatness, creativity, and accuracy.  Citations are included on the display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rt and succinct review is given that combines student thinking with research data.  An explanation of the final conclusion is includ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1-2 minute presentation is given which briefly describes the display and offers the “how” and “why” of the final conclus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" name="TextBox 6" descr=""/>
          <p:cNvPicPr/>
          <p:nvPr/>
        </p:nvPicPr>
        <p:blipFill>
          <a:blip r:embed="rId2"/>
          <a:stretch/>
        </p:blipFill>
        <p:spPr>
          <a:xfrm>
            <a:off x="6327720" y="1974960"/>
            <a:ext cx="2627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09:21Z</dcterms:created>
  <dc:creator>Sue Ruff</dc:creator>
  <dc:description/>
  <dc:language>en-US</dc:language>
  <cp:lastModifiedBy>Sue Ruff</cp:lastModifiedBy>
  <dcterms:modified xsi:type="dcterms:W3CDTF">2012-03-05T22:32:57Z</dcterms:modified>
  <cp:revision>2</cp:revision>
  <dc:subject/>
  <dc:title>Slide 1</dc:title>
</cp:coreProperties>
</file>